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F5B5-0536-4EC0-BBEB-8347F9D5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45B8-DB4A-4DC5-9ACF-2DCFF703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F7F4-EC9A-44AD-B2E7-BB0ED068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0619-709C-4C00-B67D-EC5CC025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562F-1AF9-44F7-8ACE-69198D55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C458-59B1-41DD-86F4-7303A547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0E37-DC3D-4B28-9ECD-1FB42D82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6464-F675-43B0-A643-C650A8DA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F17E-0439-4621-9414-C41F596B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621F-1A58-4487-AEF1-FF4E424F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F581-3A10-47AC-B23F-76E5285E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7B86-B9DB-4345-A3B6-F9CC60EB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3359-A93E-44CE-94B6-8A6C72173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cience fair proje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Tim Willi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weight of oil effect the viscos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at the heavier the oil, the more viscous it wi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ker or graduate cyl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o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50 ml. of oil in cyli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marble ½ inch above o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mar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ime when marble hits o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time when marble hits the bot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is three times and averag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it with other oils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… (Depende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l #1- (10w-40)– 5.57(average seco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l #2- (20w-50)– 4.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l#3- (80w-90)– 4.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conclusion is that the heavier weighted the oil is, the less viscous it wi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54:03Z</dcterms:created>
  <dc:creator>USD376</dc:creator>
  <dc:description/>
  <dc:language>en-US</dc:language>
  <cp:lastModifiedBy>USD376</cp:lastModifiedBy>
  <dcterms:modified xsi:type="dcterms:W3CDTF">2012-03-08T14:40:10Z</dcterms:modified>
  <cp:revision>4</cp:revision>
  <dc:subject/>
  <dc:title>My Science fair project.</dc:title>
</cp:coreProperties>
</file>